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45F-21C4-4038-A72F-9D56896B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5A6-A942-4F9C-801C-A50069F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421-DB40-4B25-9ABB-43FAD1AE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D03-D366-401A-AE06-E996F8A4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6F3-FAF9-4044-9F89-77C6E9F4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64D-A399-4941-8B0C-D064D8C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196-E2B8-4A58-BC8E-182F37B3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02D-FA77-4337-A0ED-837649E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C4C-26AE-4F46-92A1-C7519F59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98F-9519-463E-9D6E-1E16FDE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18E-563D-4C28-87EF-7BBE845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2BB-0901-4801-8E15-D7AF727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ff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ff008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D2C-EFA4-4DDD-A890-058FFA47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Comic Sans MS"/>
              </a:rPr>
              <a:t>What music does your brain like?</a:t>
            </a:r>
            <a:endParaRPr b="0" lang="en-US" sz="40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By Taryn Gillespie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Kids seemed to do best when listening to country music over rap, pop, and the Chipmunk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Work Cited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Prescott, Jenifer O. "Music in the classroom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scholastic instructers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7 May 2010. &lt;http://teacher.scholastic.com/products/instructor/jan05_music.htm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Manthi, Mike. "effects of popular and classical bacground music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classical music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1 Jan. &lt;http://music.arts.usf.edu/rpme/effects.htm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"test scores." </a:t>
            </a:r>
            <a:r>
              <a:rPr b="0" i="1" lang="en-US" sz="2400" spc="-1" strike="noStrike">
                <a:solidFill>
                  <a:srgbClr val="ff0080"/>
                </a:solidFill>
                <a:latin typeface="Comic Sans MS"/>
              </a:rPr>
              <a:t>arts and smarts</a:t>
            </a: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. Web. 1 Jan. &lt;http://www.sharpbrains.com/blog/2009/04/16/arts-and-smarts-test-scores-and-cognitive-development/&gt;.</a:t>
            </a:r>
            <a:endParaRPr b="0" lang="en-US" sz="24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251160" cy="243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251160" cy="24382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251160" cy="2438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8080" y="3124080"/>
            <a:ext cx="2438640" cy="3251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n testing if different types of music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will effect the test scores of my classmate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Have your teachers ever played music while you’re testing? Well I’m going to see what kind of music will make you get better test score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 predict that country music will get the best test score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I need…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est 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D’s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lassroom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CD player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est subjects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Get every body in class to clear off desk and get out a pencil. Hand out test and tell them to put name on paper. Start music and start timer while I say start. grade tests.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Possible causes of error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Laughing when music started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Distractions like people walking into room. 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ff00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Comic Sans MS"/>
              </a:rPr>
              <a:t>The results of my project are that country music got the best scores!</a:t>
            </a:r>
            <a:endParaRPr b="0" lang="en-US" sz="3200" spc="-1" strike="noStrike">
              <a:solidFill>
                <a:srgbClr val="ff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44:30Z</dcterms:created>
  <dc:creator>STERLING  USD376</dc:creator>
  <dc:description/>
  <dc:language>en-US</dc:language>
  <cp:lastModifiedBy>USD376</cp:lastModifiedBy>
  <cp:lastPrinted>2010-05-06T13:43:50Z</cp:lastPrinted>
  <dcterms:modified xsi:type="dcterms:W3CDTF">2010-05-07T19:56:54Z</dcterms:modified>
  <cp:revision>10</cp:revision>
  <dc:subject/>
  <dc:title>PowerPoint Presentation</dc:title>
</cp:coreProperties>
</file>